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E5A-C713-44BD-8C0F-A54A8210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585-33E0-4016-B03D-6F96EDA3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4B4-4B07-481E-A33A-6803E3B6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55B-598F-4827-B78A-510BF4B3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C664-2A7E-432B-814E-FA403E25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DD08-E4B6-4342-A720-F96B538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36E-2335-439D-97D0-E510D010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B070-CC92-498D-B89D-5082CD48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1407-A7AD-49E0-9BB7-D7C3A212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E202-1AF2-4A24-8FD2-AD522967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147-B13B-4612-A16C-B94BA1E7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D0C-0DF8-48A7-BB8B-7D7DA74C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5EEB-2358-46CE-BCE1-D8CA3E4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4BA-A0F5-4090-8076-599B4FB0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DFDD-4B1F-420F-B184-FBEC4335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1A70-8F1E-4D0E-8910-7C7A1E10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766B-2299-44EE-812D-9C51DA42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C80-E291-4831-9F6F-552425F8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9D8-5679-4EE6-B7E1-62E0908D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CFC-FB91-4562-AD42-3020905F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561-9390-41E3-87DE-DEB3A74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6F6-050C-49AD-A6FD-4680A48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148-B761-4658-95B6-C0069191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158-20DD-4170-9E85-B735C8A0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B02-A44A-47DB-B3A7-6C2B58517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16F2-BC1A-4677-8E8B-8CB14A0D58DC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8.xml"/><Relationship Id="rId3" Type="http://schemas.openxmlformats.org/officeDocument/2006/relationships/slide" Target="slide1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8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slide6.xml"/><Relationship Id="rId7" Type="http://schemas.openxmlformats.org/officeDocument/2006/relationships/slide" Target="slide28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The Numeracy Professional Development Project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Secondary Schoo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51051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vin H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Coordinat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ary Numerac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05320"/>
            <a:ext cx="685800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dition and Subtrac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2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8 +         = 54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63204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87600" y="2819520"/>
            <a:ext cx="6260760" cy="1516680"/>
            <a:chOff x="1587600" y="2819520"/>
            <a:chExt cx="6260760" cy="1516680"/>
          </a:xfrm>
        </p:grpSpPr>
        <p:grpSp>
          <p:nvGrpSpPr>
            <p:cNvPr id="230" name=""/>
            <p:cNvGrpSpPr/>
            <p:nvPr/>
          </p:nvGrpSpPr>
          <p:grpSpPr>
            <a:xfrm>
              <a:off x="1587600" y="3632040"/>
              <a:ext cx="339120" cy="621720"/>
              <a:chOff x="1587600" y="3632040"/>
              <a:chExt cx="339120" cy="621720"/>
            </a:xfrm>
          </p:grpSpPr>
          <p:sp>
            <p:nvSpPr>
              <p:cNvPr id="231" name=""/>
              <p:cNvSpPr/>
              <p:nvPr/>
            </p:nvSpPr>
            <p:spPr>
              <a:xfrm>
                <a:off x="158760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548600" y="3632040"/>
              <a:ext cx="339120" cy="621720"/>
              <a:chOff x="4548600" y="3632040"/>
              <a:chExt cx="339120" cy="621720"/>
            </a:xfrm>
          </p:grpSpPr>
          <p:sp>
            <p:nvSpPr>
              <p:cNvPr id="234" name=""/>
              <p:cNvSpPr/>
              <p:nvPr/>
            </p:nvSpPr>
            <p:spPr>
              <a:xfrm>
                <a:off x="454860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4328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509240" y="3632040"/>
              <a:ext cx="339120" cy="621720"/>
              <a:chOff x="7509240" y="3632040"/>
              <a:chExt cx="339120" cy="621720"/>
            </a:xfrm>
          </p:grpSpPr>
          <p:sp>
            <p:nvSpPr>
              <p:cNvPr id="237" name=""/>
              <p:cNvSpPr/>
              <p:nvPr/>
            </p:nvSpPr>
            <p:spPr>
              <a:xfrm>
                <a:off x="750924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0428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593080" y="2819520"/>
              <a:ext cx="4329000" cy="1516680"/>
              <a:chOff x="2593080" y="2819520"/>
              <a:chExt cx="4329000" cy="151668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2593080" y="3615840"/>
                <a:ext cx="519120" cy="704520"/>
                <a:chOff x="2593080" y="3615840"/>
                <a:chExt cx="519120" cy="704520"/>
              </a:xfrm>
            </p:grpSpPr>
            <p:sp>
              <p:nvSpPr>
                <p:cNvPr id="241" name=""/>
                <p:cNvSpPr/>
                <p:nvPr/>
              </p:nvSpPr>
              <p:spPr>
                <a:xfrm flipV="1">
                  <a:off x="2879640" y="3615840"/>
                  <a:ext cx="0" cy="32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593080" y="3860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870280" y="2946240"/>
                <a:ext cx="272880" cy="685800"/>
                <a:chOff x="2870280" y="2946240"/>
                <a:chExt cx="272880" cy="6858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914560" y="3251160"/>
                  <a:ext cx="228600" cy="380880"/>
                </a:xfrm>
                <a:custGeom>
                  <a:avLst/>
                  <a:gdLst/>
                  <a:ahLst/>
                  <a:rect l="l" t="t" r="r" b="b"/>
                  <a:pathLst>
                    <a:path w="240" h="168">
                      <a:moveTo>
                        <a:pt x="0" y="168"/>
                      </a:moveTo>
                      <a:cubicBezTo>
                        <a:pt x="8" y="108"/>
                        <a:pt x="16" y="48"/>
                        <a:pt x="48" y="24"/>
                      </a:cubicBezTo>
                      <a:cubicBezTo>
                        <a:pt x="80" y="0"/>
                        <a:pt x="160" y="0"/>
                        <a:pt x="192" y="24"/>
                      </a:cubicBezTo>
                      <a:cubicBezTo>
                        <a:pt x="224" y="48"/>
                        <a:pt x="232" y="108"/>
                        <a:pt x="240" y="1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70280" y="2946240"/>
                  <a:ext cx="244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149640" y="2825640"/>
                <a:ext cx="1498680" cy="806400"/>
                <a:chOff x="3149640" y="2825640"/>
                <a:chExt cx="1498680" cy="806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149640" y="3098880"/>
                  <a:ext cx="1498680" cy="533160"/>
                </a:xfrm>
                <a:custGeom>
                  <a:avLst/>
                  <a:gdLst/>
                  <a:ahLst/>
                  <a:rect l="l" t="t" r="r" b="b"/>
                  <a:pathLst>
                    <a:path w="528" h="280">
                      <a:moveTo>
                        <a:pt x="0" y="280"/>
                      </a:moveTo>
                      <a:cubicBezTo>
                        <a:pt x="40" y="180"/>
                        <a:pt x="80" y="80"/>
                        <a:pt x="144" y="40"/>
                      </a:cubicBezTo>
                      <a:cubicBezTo>
                        <a:pt x="208" y="0"/>
                        <a:pt x="320" y="0"/>
                        <a:pt x="384" y="40"/>
                      </a:cubicBezTo>
                      <a:cubicBezTo>
                        <a:pt x="448" y="80"/>
                        <a:pt x="488" y="180"/>
                        <a:pt x="528" y="2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695760" y="28256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140520" y="2901960"/>
                <a:ext cx="564840" cy="730080"/>
                <a:chOff x="6140520" y="2901960"/>
                <a:chExt cx="564840" cy="7300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140520" y="3174840"/>
                  <a:ext cx="564840" cy="457200"/>
                </a:xfrm>
                <a:custGeom>
                  <a:avLst/>
                  <a:gdLst/>
                  <a:ahLst/>
                  <a:rect l="l" t="t" r="r" b="b"/>
                  <a:pathLst>
                    <a:path w="240" h="168">
                      <a:moveTo>
                        <a:pt x="0" y="168"/>
                      </a:moveTo>
                      <a:cubicBezTo>
                        <a:pt x="8" y="108"/>
                        <a:pt x="16" y="48"/>
                        <a:pt x="48" y="24"/>
                      </a:cubicBezTo>
                      <a:cubicBezTo>
                        <a:pt x="80" y="0"/>
                        <a:pt x="160" y="0"/>
                        <a:pt x="192" y="24"/>
                      </a:cubicBezTo>
                      <a:cubicBezTo>
                        <a:pt x="224" y="48"/>
                        <a:pt x="232" y="108"/>
                        <a:pt x="240" y="1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226560" y="2901960"/>
                  <a:ext cx="302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067200" y="3632040"/>
                <a:ext cx="339120" cy="621720"/>
                <a:chOff x="3067200" y="3632040"/>
                <a:chExt cx="339120" cy="6217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067200" y="3887640"/>
                  <a:ext cx="339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164040" y="36320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027840" y="3632040"/>
                <a:ext cx="339120" cy="621720"/>
                <a:chOff x="6027840" y="3632040"/>
                <a:chExt cx="339120" cy="6217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027840" y="3887640"/>
                  <a:ext cx="339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124680" y="36320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48320" y="2819520"/>
                <a:ext cx="1498320" cy="812520"/>
                <a:chOff x="4648320" y="2819520"/>
                <a:chExt cx="1498320" cy="8125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4440" y="28195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48320" y="3098880"/>
                  <a:ext cx="1498320" cy="533160"/>
                </a:xfrm>
                <a:custGeom>
                  <a:avLst/>
                  <a:gdLst/>
                  <a:ahLst/>
                  <a:rect l="l" t="t" r="r" b="b"/>
                  <a:pathLst>
                    <a:path w="528" h="280">
                      <a:moveTo>
                        <a:pt x="0" y="280"/>
                      </a:moveTo>
                      <a:cubicBezTo>
                        <a:pt x="40" y="180"/>
                        <a:pt x="80" y="80"/>
                        <a:pt x="144" y="40"/>
                      </a:cubicBezTo>
                      <a:cubicBezTo>
                        <a:pt x="208" y="0"/>
                        <a:pt x="320" y="0"/>
                        <a:pt x="384" y="40"/>
                      </a:cubicBezTo>
                      <a:cubicBezTo>
                        <a:pt x="448" y="80"/>
                        <a:pt x="488" y="180"/>
                        <a:pt x="528" y="2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402960" y="3631680"/>
                <a:ext cx="519120" cy="704520"/>
                <a:chOff x="6402960" y="3631680"/>
                <a:chExt cx="519120" cy="70452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6689520" y="3631680"/>
                  <a:ext cx="0" cy="32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402960" y="38764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1371600" y="4276800"/>
            <a:ext cx="6553080" cy="914400"/>
            <a:chOff x="1371600" y="4276800"/>
            <a:chExt cx="6553080" cy="914400"/>
          </a:xfrm>
        </p:grpSpPr>
        <p:sp>
          <p:nvSpPr>
            <p:cNvPr id="265" name=""/>
            <p:cNvSpPr/>
            <p:nvPr/>
          </p:nvSpPr>
          <p:spPr>
            <a:xfrm>
              <a:off x="1371600" y="4276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6 +         = 7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6200" y="442944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886200" y="4276800"/>
            <a:ext cx="1143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92776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373840" y="5124600"/>
            <a:ext cx="4548240" cy="1507320"/>
            <a:chOff x="2373840" y="5124600"/>
            <a:chExt cx="4548240" cy="1507320"/>
          </a:xfrm>
        </p:grpSpPr>
        <p:grpSp>
          <p:nvGrpSpPr>
            <p:cNvPr id="270" name=""/>
            <p:cNvGrpSpPr/>
            <p:nvPr/>
          </p:nvGrpSpPr>
          <p:grpSpPr>
            <a:xfrm>
              <a:off x="2373840" y="5911560"/>
              <a:ext cx="519120" cy="704520"/>
              <a:chOff x="2373840" y="5911560"/>
              <a:chExt cx="519120" cy="70452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2660400" y="59115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73840" y="6156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681280" y="555300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81360" y="5241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43160" y="538956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75160" y="512460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140520" y="5197320"/>
              <a:ext cx="564840" cy="730080"/>
              <a:chOff x="6140520" y="5197320"/>
              <a:chExt cx="564840" cy="730080"/>
            </a:xfrm>
          </p:grpSpPr>
          <p:sp>
            <p:nvSpPr>
              <p:cNvPr id="278" name=""/>
              <p:cNvSpPr/>
              <p:nvPr/>
            </p:nvSpPr>
            <p:spPr>
              <a:xfrm>
                <a:off x="6140520" y="547020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26560" y="519732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067200" y="5927760"/>
              <a:ext cx="339120" cy="621360"/>
              <a:chOff x="3067200" y="5927760"/>
              <a:chExt cx="339120" cy="621360"/>
            </a:xfrm>
          </p:grpSpPr>
          <p:sp>
            <p:nvSpPr>
              <p:cNvPr id="281" name=""/>
              <p:cNvSpPr/>
              <p:nvPr/>
            </p:nvSpPr>
            <p:spPr>
              <a:xfrm>
                <a:off x="3067200" y="618300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592776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027840" y="5927760"/>
              <a:ext cx="339120" cy="621360"/>
              <a:chOff x="6027840" y="5927760"/>
              <a:chExt cx="339120" cy="621360"/>
            </a:xfrm>
          </p:grpSpPr>
          <p:sp>
            <p:nvSpPr>
              <p:cNvPr id="284" name=""/>
              <p:cNvSpPr/>
              <p:nvPr/>
            </p:nvSpPr>
            <p:spPr>
              <a:xfrm>
                <a:off x="6027840" y="618300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4680" y="592776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402960" y="5927400"/>
              <a:ext cx="519120" cy="704520"/>
              <a:chOff x="6402960" y="5927400"/>
              <a:chExt cx="519120" cy="70452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6689520" y="59274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2960" y="6172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91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8 +         = 6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40 to get to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30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30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30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30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31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from here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trac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rategies on number 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Algebra - solv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1371600" y="20574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68580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1523880" y="2438280"/>
            <a:ext cx="4496040" cy="381240"/>
          </a:xfrm>
          <a:custGeom>
            <a:avLst/>
            <a:gdLst>
              <a:gd name="textAreaLeft" fmla="*/ 24480 w 4496040"/>
              <a:gd name="textAreaRight" fmla="*/ 4471560 w 4496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4513" h="21600">
                <a:moveTo>
                  <a:pt x="0" y="0"/>
                </a:moveTo>
                <a:lnTo>
                  <a:pt x="254513" y="0"/>
                </a:lnTo>
                <a:lnTo>
                  <a:pt x="254513" y="21600"/>
                </a:lnTo>
                <a:lnTo>
                  <a:pt x="0" y="21600"/>
                </a:lnTo>
                <a:close/>
              </a:path>
              <a:path fill="lightenLess" w="254513" h="21600">
                <a:moveTo>
                  <a:pt x="0" y="0"/>
                </a:moveTo>
                <a:lnTo>
                  <a:pt x="254513" y="0"/>
                </a:lnTo>
                <a:lnTo>
                  <a:pt x="253113" y="1400"/>
                </a:lnTo>
                <a:lnTo>
                  <a:pt x="1400" y="1400"/>
                </a:lnTo>
                <a:close/>
              </a:path>
              <a:path fill="darken" w="254513" h="21600">
                <a:moveTo>
                  <a:pt x="254513" y="0"/>
                </a:moveTo>
                <a:lnTo>
                  <a:pt x="254513" y="21600"/>
                </a:lnTo>
                <a:lnTo>
                  <a:pt x="253113" y="20200"/>
                </a:lnTo>
                <a:lnTo>
                  <a:pt x="253113" y="1400"/>
                </a:lnTo>
                <a:close/>
              </a:path>
              <a:path fill="darkenLess" w="254513" h="21600">
                <a:moveTo>
                  <a:pt x="25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13" y="20200"/>
                </a:lnTo>
                <a:close/>
              </a:path>
              <a:path fill="lighten" w="25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4" action="ppaction://hlinksldjump"/>
          </p:cNvPr>
          <p:cNvSpPr/>
          <p:nvPr/>
        </p:nvSpPr>
        <p:spPr>
          <a:xfrm>
            <a:off x="1523880" y="2819520"/>
            <a:ext cx="4800600" cy="457200"/>
          </a:xfrm>
          <a:custGeom>
            <a:avLst/>
            <a:gdLst>
              <a:gd name="textAreaLeft" fmla="*/ 29520 w 4800600"/>
              <a:gd name="textAreaRight" fmla="*/ 4771080 w 4800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6639" h="21600">
                <a:moveTo>
                  <a:pt x="0" y="0"/>
                </a:moveTo>
                <a:lnTo>
                  <a:pt x="226639" y="0"/>
                </a:lnTo>
                <a:lnTo>
                  <a:pt x="226639" y="21600"/>
                </a:lnTo>
                <a:lnTo>
                  <a:pt x="0" y="21600"/>
                </a:lnTo>
                <a:close/>
              </a:path>
              <a:path fill="lightenLess" w="226639" h="21600">
                <a:moveTo>
                  <a:pt x="0" y="0"/>
                </a:moveTo>
                <a:lnTo>
                  <a:pt x="226639" y="0"/>
                </a:lnTo>
                <a:lnTo>
                  <a:pt x="225239" y="1400"/>
                </a:lnTo>
                <a:lnTo>
                  <a:pt x="1400" y="1400"/>
                </a:lnTo>
                <a:close/>
              </a:path>
              <a:path fill="darken" w="226639" h="21600">
                <a:moveTo>
                  <a:pt x="226639" y="0"/>
                </a:moveTo>
                <a:lnTo>
                  <a:pt x="226639" y="21600"/>
                </a:lnTo>
                <a:lnTo>
                  <a:pt x="225239" y="20200"/>
                </a:lnTo>
                <a:lnTo>
                  <a:pt x="225239" y="1400"/>
                </a:lnTo>
                <a:close/>
              </a:path>
              <a:path fill="darkenLess" w="226639" h="21600">
                <a:moveTo>
                  <a:pt x="22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39" y="20200"/>
                </a:lnTo>
                <a:close/>
              </a:path>
              <a:path fill="lighten" w="22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328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331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346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349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352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355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358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361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364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367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370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373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376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388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396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399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402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trategies &amp;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39440" cy="5554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31240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number line is a versatile tool and im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be used to support and explain a variety of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be used to solve a wide range of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prepare students for alge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3431160" y="4022280"/>
            <a:ext cx="519120" cy="1120680"/>
            <a:chOff x="3431160" y="4022280"/>
            <a:chExt cx="519120" cy="1120680"/>
          </a:xfrm>
        </p:grpSpPr>
        <p:sp>
          <p:nvSpPr>
            <p:cNvPr id="420" name=""/>
            <p:cNvSpPr/>
            <p:nvPr/>
          </p:nvSpPr>
          <p:spPr>
            <a:xfrm flipV="1">
              <a:off x="37177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311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768000" y="4022280"/>
            <a:ext cx="519120" cy="1120680"/>
            <a:chOff x="6768000" y="4022280"/>
            <a:chExt cx="519120" cy="1120680"/>
          </a:xfrm>
        </p:grpSpPr>
        <p:sp>
          <p:nvSpPr>
            <p:cNvPr id="423" name=""/>
            <p:cNvSpPr/>
            <p:nvPr/>
          </p:nvSpPr>
          <p:spPr>
            <a:xfrm flipV="1">
              <a:off x="7054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680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016080" y="3348000"/>
            <a:ext cx="533520" cy="662040"/>
            <a:chOff x="3016080" y="3348000"/>
            <a:chExt cx="533520" cy="662040"/>
          </a:xfrm>
        </p:grpSpPr>
        <p:sp>
          <p:nvSpPr>
            <p:cNvPr id="426" name=""/>
            <p:cNvSpPr/>
            <p:nvPr/>
          </p:nvSpPr>
          <p:spPr>
            <a:xfrm>
              <a:off x="3016080" y="3629160"/>
              <a:ext cx="53352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7840" y="3348000"/>
              <a:ext cx="2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429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432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232680" y="3276720"/>
            <a:ext cx="838080" cy="749160"/>
            <a:chOff x="6232680" y="3276720"/>
            <a:chExt cx="838080" cy="749160"/>
          </a:xfrm>
        </p:grpSpPr>
        <p:sp>
          <p:nvSpPr>
            <p:cNvPr id="435" name=""/>
            <p:cNvSpPr/>
            <p:nvPr/>
          </p:nvSpPr>
          <p:spPr>
            <a:xfrm>
              <a:off x="623268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17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505320" y="3352680"/>
            <a:ext cx="244440" cy="685800"/>
            <a:chOff x="3505320" y="3352680"/>
            <a:chExt cx="244440" cy="685800"/>
          </a:xfrm>
        </p:grpSpPr>
        <p:sp>
          <p:nvSpPr>
            <p:cNvPr id="438" name=""/>
            <p:cNvSpPr/>
            <p:nvPr/>
          </p:nvSpPr>
          <p:spPr>
            <a:xfrm>
              <a:off x="3559320" y="3657600"/>
              <a:ext cx="174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0532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718080" y="3276720"/>
            <a:ext cx="838080" cy="755640"/>
            <a:chOff x="3718080" y="3276720"/>
            <a:chExt cx="838080" cy="755640"/>
          </a:xfrm>
        </p:grpSpPr>
        <p:sp>
          <p:nvSpPr>
            <p:cNvPr id="442" name=""/>
            <p:cNvSpPr/>
            <p:nvPr/>
          </p:nvSpPr>
          <p:spPr>
            <a:xfrm>
              <a:off x="3718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894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729520" y="4038120"/>
            <a:ext cx="519120" cy="1120680"/>
            <a:chOff x="2729520" y="4038120"/>
            <a:chExt cx="519120" cy="1120680"/>
          </a:xfrm>
        </p:grpSpPr>
        <p:sp>
          <p:nvSpPr>
            <p:cNvPr id="445" name=""/>
            <p:cNvSpPr/>
            <p:nvPr/>
          </p:nvSpPr>
          <p:spPr>
            <a:xfrm flipV="1">
              <a:off x="3016080" y="4038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29520" y="4699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tion and Subtraction strateg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Strateg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el for a Teaching Prog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number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and addi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umber to Algebra - solv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85800" y="20574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3808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685800" y="3352680"/>
            <a:ext cx="2743200" cy="38124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5296" h="21600">
                <a:moveTo>
                  <a:pt x="0" y="0"/>
                </a:moveTo>
                <a:lnTo>
                  <a:pt x="155296" y="0"/>
                </a:lnTo>
                <a:lnTo>
                  <a:pt x="155296" y="21600"/>
                </a:lnTo>
                <a:lnTo>
                  <a:pt x="0" y="21600"/>
                </a:lnTo>
                <a:close/>
              </a:path>
              <a:path fill="lightenLess" w="155296" h="21600">
                <a:moveTo>
                  <a:pt x="0" y="0"/>
                </a:moveTo>
                <a:lnTo>
                  <a:pt x="155296" y="0"/>
                </a:lnTo>
                <a:lnTo>
                  <a:pt x="153896" y="1400"/>
                </a:lnTo>
                <a:lnTo>
                  <a:pt x="1400" y="1400"/>
                </a:lnTo>
                <a:close/>
              </a:path>
              <a:path fill="darken" w="155296" h="21600">
                <a:moveTo>
                  <a:pt x="155296" y="0"/>
                </a:moveTo>
                <a:lnTo>
                  <a:pt x="155296" y="21600"/>
                </a:lnTo>
                <a:lnTo>
                  <a:pt x="153896" y="20200"/>
                </a:lnTo>
                <a:lnTo>
                  <a:pt x="153896" y="1400"/>
                </a:lnTo>
                <a:close/>
              </a:path>
              <a:path fill="darkenLess" w="155296" h="21600">
                <a:moveTo>
                  <a:pt x="15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96" y="20200"/>
                </a:lnTo>
                <a:close/>
              </a:path>
              <a:path fill="lighten" w="15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762120" y="3809880"/>
            <a:ext cx="4876560" cy="304920"/>
          </a:xfrm>
          <a:custGeom>
            <a:avLst/>
            <a:gdLst>
              <a:gd name="textAreaLeft" fmla="*/ 19440 w 4876560"/>
              <a:gd name="textAreaRight" fmla="*/ 4857120 w 4876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45065" h="21600">
                <a:moveTo>
                  <a:pt x="0" y="0"/>
                </a:moveTo>
                <a:lnTo>
                  <a:pt x="345065" y="0"/>
                </a:lnTo>
                <a:lnTo>
                  <a:pt x="345065" y="21600"/>
                </a:lnTo>
                <a:lnTo>
                  <a:pt x="0" y="21600"/>
                </a:lnTo>
                <a:close/>
              </a:path>
              <a:path fill="lightenLess" w="345065" h="21600">
                <a:moveTo>
                  <a:pt x="0" y="0"/>
                </a:moveTo>
                <a:lnTo>
                  <a:pt x="345065" y="0"/>
                </a:lnTo>
                <a:lnTo>
                  <a:pt x="343665" y="1400"/>
                </a:lnTo>
                <a:lnTo>
                  <a:pt x="1400" y="1400"/>
                </a:lnTo>
                <a:close/>
              </a:path>
              <a:path fill="darken" w="345065" h="21600">
                <a:moveTo>
                  <a:pt x="345065" y="0"/>
                </a:moveTo>
                <a:lnTo>
                  <a:pt x="345065" y="21600"/>
                </a:lnTo>
                <a:lnTo>
                  <a:pt x="343665" y="20200"/>
                </a:lnTo>
                <a:lnTo>
                  <a:pt x="343665" y="1400"/>
                </a:lnTo>
                <a:close/>
              </a:path>
              <a:path fill="darkenLess" w="345065" h="21600">
                <a:moveTo>
                  <a:pt x="345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65" y="20200"/>
                </a:lnTo>
                <a:close/>
              </a:path>
              <a:path fill="lighten" w="345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685800" y="4191120"/>
            <a:ext cx="5334120" cy="380880"/>
          </a:xfrm>
          <a:custGeom>
            <a:avLst/>
            <a:gdLst>
              <a:gd name="textAreaLeft" fmla="*/ 24480 w 5334120"/>
              <a:gd name="textAreaRight" fmla="*/ 5309640 w 5334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37" h="21600">
                <a:moveTo>
                  <a:pt x="0" y="0"/>
                </a:moveTo>
                <a:lnTo>
                  <a:pt x="302237" y="0"/>
                </a:lnTo>
                <a:lnTo>
                  <a:pt x="302237" y="21600"/>
                </a:lnTo>
                <a:lnTo>
                  <a:pt x="0" y="21600"/>
                </a:lnTo>
                <a:close/>
              </a:path>
              <a:path fill="lightenLess" w="302237" h="21600">
                <a:moveTo>
                  <a:pt x="0" y="0"/>
                </a:moveTo>
                <a:lnTo>
                  <a:pt x="302237" y="0"/>
                </a:lnTo>
                <a:lnTo>
                  <a:pt x="300837" y="1400"/>
                </a:lnTo>
                <a:lnTo>
                  <a:pt x="1400" y="1400"/>
                </a:lnTo>
                <a:close/>
              </a:path>
              <a:path fill="darken" w="302237" h="21600">
                <a:moveTo>
                  <a:pt x="302237" y="0"/>
                </a:moveTo>
                <a:lnTo>
                  <a:pt x="302237" y="21600"/>
                </a:lnTo>
                <a:lnTo>
                  <a:pt x="300837" y="20200"/>
                </a:lnTo>
                <a:lnTo>
                  <a:pt x="300837" y="1400"/>
                </a:lnTo>
                <a:close/>
              </a:path>
              <a:path fill="darkenLess" w="302237" h="21600">
                <a:moveTo>
                  <a:pt x="302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837" y="20200"/>
                </a:lnTo>
                <a:close/>
              </a:path>
              <a:path fill="lighten" w="302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762120" y="2895480"/>
            <a:ext cx="3047760" cy="381240"/>
          </a:xfrm>
          <a:custGeom>
            <a:avLst/>
            <a:gdLst>
              <a:gd name="textAreaLeft" fmla="*/ 24480 w 3047760"/>
              <a:gd name="textAreaRight" fmla="*/ 3023280 w 3047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35" h="21600">
                <a:moveTo>
                  <a:pt x="0" y="0"/>
                </a:moveTo>
                <a:lnTo>
                  <a:pt x="172535" y="0"/>
                </a:lnTo>
                <a:lnTo>
                  <a:pt x="172535" y="21600"/>
                </a:lnTo>
                <a:lnTo>
                  <a:pt x="0" y="21600"/>
                </a:lnTo>
                <a:close/>
              </a:path>
              <a:path fill="lightenLess" w="172535" h="21600">
                <a:moveTo>
                  <a:pt x="0" y="0"/>
                </a:moveTo>
                <a:lnTo>
                  <a:pt x="172535" y="0"/>
                </a:lnTo>
                <a:lnTo>
                  <a:pt x="171135" y="1400"/>
                </a:lnTo>
                <a:lnTo>
                  <a:pt x="1400" y="1400"/>
                </a:lnTo>
                <a:close/>
              </a:path>
              <a:path fill="darken" w="172535" h="21600">
                <a:moveTo>
                  <a:pt x="172535" y="0"/>
                </a:moveTo>
                <a:lnTo>
                  <a:pt x="172535" y="21600"/>
                </a:lnTo>
                <a:lnTo>
                  <a:pt x="171135" y="20200"/>
                </a:lnTo>
                <a:lnTo>
                  <a:pt x="171135" y="1400"/>
                </a:lnTo>
                <a:close/>
              </a:path>
              <a:path fill="darkenLess" w="172535" h="21600">
                <a:moveTo>
                  <a:pt x="17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35" y="20200"/>
                </a:lnTo>
                <a:close/>
              </a:path>
              <a:path fill="lighten" w="17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685800" y="4648320"/>
            <a:ext cx="5105520" cy="380880"/>
          </a:xfrm>
          <a:custGeom>
            <a:avLst/>
            <a:gdLst>
              <a:gd name="textAreaLeft" fmla="*/ 24480 w 5105520"/>
              <a:gd name="textAreaRight" fmla="*/ 5081040 w 5105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9285" h="21600">
                <a:moveTo>
                  <a:pt x="0" y="0"/>
                </a:moveTo>
                <a:lnTo>
                  <a:pt x="289285" y="0"/>
                </a:lnTo>
                <a:lnTo>
                  <a:pt x="289285" y="21600"/>
                </a:lnTo>
                <a:lnTo>
                  <a:pt x="0" y="21600"/>
                </a:lnTo>
                <a:close/>
              </a:path>
              <a:path fill="lightenLess" w="289285" h="21600">
                <a:moveTo>
                  <a:pt x="0" y="0"/>
                </a:moveTo>
                <a:lnTo>
                  <a:pt x="289285" y="0"/>
                </a:lnTo>
                <a:lnTo>
                  <a:pt x="287885" y="1400"/>
                </a:lnTo>
                <a:lnTo>
                  <a:pt x="1400" y="1400"/>
                </a:lnTo>
                <a:close/>
              </a:path>
              <a:path fill="darken" w="289285" h="21600">
                <a:moveTo>
                  <a:pt x="289285" y="0"/>
                </a:moveTo>
                <a:lnTo>
                  <a:pt x="289285" y="21600"/>
                </a:lnTo>
                <a:lnTo>
                  <a:pt x="287885" y="20200"/>
                </a:lnTo>
                <a:lnTo>
                  <a:pt x="287885" y="1400"/>
                </a:lnTo>
                <a:close/>
              </a:path>
              <a:path fill="darkenLess" w="289285" h="21600">
                <a:moveTo>
                  <a:pt x="289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85" y="20200"/>
                </a:lnTo>
                <a:close/>
              </a:path>
              <a:path fill="lighten" w="289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685800" y="510552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2602440" y="4022280"/>
            <a:ext cx="519120" cy="1120680"/>
            <a:chOff x="2602440" y="4022280"/>
            <a:chExt cx="519120" cy="1120680"/>
          </a:xfrm>
        </p:grpSpPr>
        <p:sp>
          <p:nvSpPr>
            <p:cNvPr id="452" name=""/>
            <p:cNvSpPr/>
            <p:nvPr/>
          </p:nvSpPr>
          <p:spPr>
            <a:xfrm flipV="1">
              <a:off x="28893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24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768000" y="4022280"/>
            <a:ext cx="519120" cy="1120680"/>
            <a:chOff x="6768000" y="4022280"/>
            <a:chExt cx="519120" cy="1120680"/>
          </a:xfrm>
        </p:grpSpPr>
        <p:sp>
          <p:nvSpPr>
            <p:cNvPr id="455" name=""/>
            <p:cNvSpPr/>
            <p:nvPr/>
          </p:nvSpPr>
          <p:spPr>
            <a:xfrm flipV="1">
              <a:off x="7054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80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895120" y="4044960"/>
            <a:ext cx="304920" cy="604080"/>
            <a:chOff x="2895120" y="4044960"/>
            <a:chExt cx="304920" cy="604080"/>
          </a:xfrm>
        </p:grpSpPr>
        <p:sp>
          <p:nvSpPr>
            <p:cNvPr id="458" name=""/>
            <p:cNvSpPr/>
            <p:nvPr/>
          </p:nvSpPr>
          <p:spPr>
            <a:xfrm flipH="1" flipV="1">
              <a:off x="2894760" y="4044960"/>
              <a:ext cx="304920" cy="3333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33640" y="43117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461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464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232680" y="3276720"/>
            <a:ext cx="838080" cy="749160"/>
            <a:chOff x="6232680" y="3276720"/>
            <a:chExt cx="838080" cy="749160"/>
          </a:xfrm>
        </p:grpSpPr>
        <p:sp>
          <p:nvSpPr>
            <p:cNvPr id="467" name=""/>
            <p:cNvSpPr/>
            <p:nvPr/>
          </p:nvSpPr>
          <p:spPr>
            <a:xfrm>
              <a:off x="623268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17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718080" y="3276720"/>
            <a:ext cx="838080" cy="755640"/>
            <a:chOff x="3718080" y="3276720"/>
            <a:chExt cx="838080" cy="755640"/>
          </a:xfrm>
        </p:grpSpPr>
        <p:sp>
          <p:nvSpPr>
            <p:cNvPr id="471" name=""/>
            <p:cNvSpPr/>
            <p:nvPr/>
          </p:nvSpPr>
          <p:spPr>
            <a:xfrm>
              <a:off x="3718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894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200040" y="4038480"/>
            <a:ext cx="674280" cy="1374120"/>
            <a:chOff x="3200040" y="4038480"/>
            <a:chExt cx="674280" cy="1374120"/>
          </a:xfrm>
        </p:grpSpPr>
        <p:sp>
          <p:nvSpPr>
            <p:cNvPr id="474" name=""/>
            <p:cNvSpPr/>
            <p:nvPr/>
          </p:nvSpPr>
          <p:spPr>
            <a:xfrm flipH="1" flipV="1">
              <a:off x="3200040" y="40384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55200" y="4952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895480" y="3276720"/>
            <a:ext cx="838080" cy="755640"/>
            <a:chOff x="2895480" y="3276720"/>
            <a:chExt cx="838080" cy="755640"/>
          </a:xfrm>
        </p:grpSpPr>
        <p:sp>
          <p:nvSpPr>
            <p:cNvPr id="477" name=""/>
            <p:cNvSpPr/>
            <p:nvPr/>
          </p:nvSpPr>
          <p:spPr>
            <a:xfrm>
              <a:off x="28954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668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92 -       =  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957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2145240" y="4022280"/>
            <a:ext cx="519120" cy="1120680"/>
            <a:chOff x="2145240" y="4022280"/>
            <a:chExt cx="519120" cy="1120680"/>
          </a:xfrm>
        </p:grpSpPr>
        <p:sp>
          <p:nvSpPr>
            <p:cNvPr id="484" name=""/>
            <p:cNvSpPr/>
            <p:nvPr/>
          </p:nvSpPr>
          <p:spPr>
            <a:xfrm flipV="1">
              <a:off x="24321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452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641360" y="4022280"/>
            <a:ext cx="519120" cy="1120680"/>
            <a:chOff x="7641360" y="4022280"/>
            <a:chExt cx="519120" cy="1120680"/>
          </a:xfrm>
        </p:grpSpPr>
        <p:sp>
          <p:nvSpPr>
            <p:cNvPr id="487" name=""/>
            <p:cNvSpPr/>
            <p:nvPr/>
          </p:nvSpPr>
          <p:spPr>
            <a:xfrm flipV="1">
              <a:off x="79279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413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48520" y="3276720"/>
            <a:ext cx="838080" cy="749160"/>
            <a:chOff x="6248520" y="3276720"/>
            <a:chExt cx="838080" cy="749160"/>
          </a:xfrm>
        </p:grpSpPr>
        <p:sp>
          <p:nvSpPr>
            <p:cNvPr id="490" name=""/>
            <p:cNvSpPr/>
            <p:nvPr/>
          </p:nvSpPr>
          <p:spPr>
            <a:xfrm>
              <a:off x="62485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67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086600" y="3276720"/>
            <a:ext cx="838080" cy="749160"/>
            <a:chOff x="7086600" y="3276720"/>
            <a:chExt cx="838080" cy="749160"/>
          </a:xfrm>
        </p:grpSpPr>
        <p:sp>
          <p:nvSpPr>
            <p:cNvPr id="493" name=""/>
            <p:cNvSpPr/>
            <p:nvPr/>
          </p:nvSpPr>
          <p:spPr>
            <a:xfrm>
              <a:off x="708660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7092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6576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438280" y="3276720"/>
            <a:ext cx="457200" cy="761400"/>
            <a:chOff x="2438280" y="3276720"/>
            <a:chExt cx="457200" cy="761400"/>
          </a:xfrm>
        </p:grpSpPr>
        <p:sp>
          <p:nvSpPr>
            <p:cNvPr id="497" name=""/>
            <p:cNvSpPr/>
            <p:nvPr/>
          </p:nvSpPr>
          <p:spPr>
            <a:xfrm>
              <a:off x="2438280" y="3600000"/>
              <a:ext cx="45720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50960" y="3276720"/>
              <a:ext cx="2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410080" y="3276720"/>
            <a:ext cx="838440" cy="749160"/>
            <a:chOff x="5410080" y="3276720"/>
            <a:chExt cx="838440" cy="749160"/>
          </a:xfrm>
        </p:grpSpPr>
        <p:sp>
          <p:nvSpPr>
            <p:cNvPr id="500" name=""/>
            <p:cNvSpPr/>
            <p:nvPr/>
          </p:nvSpPr>
          <p:spPr>
            <a:xfrm>
              <a:off x="54100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386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572000" y="3276720"/>
            <a:ext cx="838080" cy="749160"/>
            <a:chOff x="4572000" y="3276720"/>
            <a:chExt cx="838080" cy="749160"/>
          </a:xfrm>
        </p:grpSpPr>
        <p:sp>
          <p:nvSpPr>
            <p:cNvPr id="503" name=""/>
            <p:cNvSpPr/>
            <p:nvPr/>
          </p:nvSpPr>
          <p:spPr>
            <a:xfrm>
              <a:off x="457200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002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733920" y="3276720"/>
            <a:ext cx="838080" cy="749160"/>
            <a:chOff x="3733920" y="3276720"/>
            <a:chExt cx="838080" cy="749160"/>
          </a:xfrm>
        </p:grpSpPr>
        <p:sp>
          <p:nvSpPr>
            <p:cNvPr id="506" name=""/>
            <p:cNvSpPr/>
            <p:nvPr/>
          </p:nvSpPr>
          <p:spPr>
            <a:xfrm>
              <a:off x="37339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621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895480" y="3276720"/>
            <a:ext cx="838440" cy="749160"/>
            <a:chOff x="2895480" y="3276720"/>
            <a:chExt cx="838440" cy="749160"/>
          </a:xfrm>
        </p:grpSpPr>
        <p:sp>
          <p:nvSpPr>
            <p:cNvPr id="509" name=""/>
            <p:cNvSpPr/>
            <p:nvPr/>
          </p:nvSpPr>
          <p:spPr>
            <a:xfrm>
              <a:off x="28954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240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12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2 - 65 =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4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92 -       =  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57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5345640" y="4022280"/>
            <a:ext cx="519120" cy="1120680"/>
            <a:chOff x="5345640" y="4022280"/>
            <a:chExt cx="519120" cy="1120680"/>
          </a:xfrm>
        </p:grpSpPr>
        <p:sp>
          <p:nvSpPr>
            <p:cNvPr id="519" name=""/>
            <p:cNvSpPr/>
            <p:nvPr/>
          </p:nvSpPr>
          <p:spPr>
            <a:xfrm flipV="1">
              <a:off x="5632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56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641360" y="4022280"/>
            <a:ext cx="519120" cy="1120680"/>
            <a:chOff x="7641360" y="4022280"/>
            <a:chExt cx="519120" cy="1120680"/>
          </a:xfrm>
        </p:grpSpPr>
        <p:sp>
          <p:nvSpPr>
            <p:cNvPr id="522" name=""/>
            <p:cNvSpPr/>
            <p:nvPr/>
          </p:nvSpPr>
          <p:spPr>
            <a:xfrm flipV="1">
              <a:off x="79279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413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5880" y="3276720"/>
            <a:ext cx="838440" cy="749160"/>
            <a:chOff x="6095880" y="3276720"/>
            <a:chExt cx="838440" cy="749160"/>
          </a:xfrm>
        </p:grpSpPr>
        <p:sp>
          <p:nvSpPr>
            <p:cNvPr id="525" name=""/>
            <p:cNvSpPr/>
            <p:nvPr/>
          </p:nvSpPr>
          <p:spPr>
            <a:xfrm>
              <a:off x="60958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44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934320" y="3276720"/>
            <a:ext cx="838080" cy="749160"/>
            <a:chOff x="6934320" y="3276720"/>
            <a:chExt cx="838080" cy="749160"/>
          </a:xfrm>
        </p:grpSpPr>
        <p:sp>
          <p:nvSpPr>
            <p:cNvPr id="528" name=""/>
            <p:cNvSpPr/>
            <p:nvPr/>
          </p:nvSpPr>
          <p:spPr>
            <a:xfrm>
              <a:off x="69343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186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6576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638680" y="3276720"/>
            <a:ext cx="457200" cy="761400"/>
            <a:chOff x="5638680" y="3276720"/>
            <a:chExt cx="457200" cy="761400"/>
          </a:xfrm>
        </p:grpSpPr>
        <p:sp>
          <p:nvSpPr>
            <p:cNvPr id="532" name=""/>
            <p:cNvSpPr/>
            <p:nvPr/>
          </p:nvSpPr>
          <p:spPr>
            <a:xfrm>
              <a:off x="5638680" y="3600000"/>
              <a:ext cx="45720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51360" y="3276720"/>
              <a:ext cx="2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709040" y="3352680"/>
            <a:ext cx="244440" cy="685800"/>
            <a:chOff x="7709040" y="3352680"/>
            <a:chExt cx="244440" cy="685800"/>
          </a:xfrm>
        </p:grpSpPr>
        <p:sp>
          <p:nvSpPr>
            <p:cNvPr id="535" name=""/>
            <p:cNvSpPr/>
            <p:nvPr/>
          </p:nvSpPr>
          <p:spPr>
            <a:xfrm>
              <a:off x="7763040" y="3657600"/>
              <a:ext cx="174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0904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295280" y="5257800"/>
            <a:ext cx="6553440" cy="914400"/>
            <a:chOff x="1295280" y="5257800"/>
            <a:chExt cx="6553440" cy="914400"/>
          </a:xfrm>
        </p:grpSpPr>
        <p:sp>
          <p:nvSpPr>
            <p:cNvPr id="538" name=""/>
            <p:cNvSpPr/>
            <p:nvPr/>
          </p:nvSpPr>
          <p:spPr>
            <a:xfrm>
              <a:off x="1295280" y="5257800"/>
              <a:ext cx="655344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	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65+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	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=  9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9900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 18 =  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3593160" y="4022280"/>
            <a:ext cx="519120" cy="1120680"/>
            <a:chOff x="3593160" y="4022280"/>
            <a:chExt cx="519120" cy="1120680"/>
          </a:xfrm>
        </p:grpSpPr>
        <p:sp>
          <p:nvSpPr>
            <p:cNvPr id="545" name=""/>
            <p:cNvSpPr/>
            <p:nvPr/>
          </p:nvSpPr>
          <p:spPr>
            <a:xfrm flipV="1">
              <a:off x="38800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931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32880" y="4022280"/>
            <a:ext cx="519120" cy="1120680"/>
            <a:chOff x="5132880" y="4022280"/>
            <a:chExt cx="519120" cy="1120680"/>
          </a:xfrm>
        </p:grpSpPr>
        <p:sp>
          <p:nvSpPr>
            <p:cNvPr id="548" name=""/>
            <p:cNvSpPr/>
            <p:nvPr/>
          </p:nvSpPr>
          <p:spPr>
            <a:xfrm flipV="1">
              <a:off x="54194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32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724280" y="3327480"/>
            <a:ext cx="685800" cy="685440"/>
            <a:chOff x="4724280" y="3327480"/>
            <a:chExt cx="685800" cy="685440"/>
          </a:xfrm>
        </p:grpSpPr>
        <p:sp>
          <p:nvSpPr>
            <p:cNvPr id="551" name=""/>
            <p:cNvSpPr/>
            <p:nvPr/>
          </p:nvSpPr>
          <p:spPr>
            <a:xfrm>
              <a:off x="4724280" y="3606120"/>
              <a:ext cx="685800" cy="4068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11120" y="332748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6200" y="3276720"/>
            <a:ext cx="838080" cy="755640"/>
            <a:chOff x="3886200" y="3276720"/>
            <a:chExt cx="838080" cy="755640"/>
          </a:xfrm>
        </p:grpSpPr>
        <p:sp>
          <p:nvSpPr>
            <p:cNvPr id="555" name=""/>
            <p:cNvSpPr/>
            <p:nvPr/>
          </p:nvSpPr>
          <p:spPr>
            <a:xfrm>
              <a:off x="38862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5756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58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=  43 + 18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2416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0" y="525780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6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 18 =  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1373760" y="4022280"/>
            <a:ext cx="519120" cy="1120680"/>
            <a:chOff x="1373760" y="4022280"/>
            <a:chExt cx="519120" cy="1120680"/>
          </a:xfrm>
        </p:grpSpPr>
        <p:sp>
          <p:nvSpPr>
            <p:cNvPr id="566" name=""/>
            <p:cNvSpPr/>
            <p:nvPr/>
          </p:nvSpPr>
          <p:spPr>
            <a:xfrm flipV="1">
              <a:off x="16606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737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132880" y="4022280"/>
            <a:ext cx="519120" cy="1120680"/>
            <a:chOff x="5132880" y="4022280"/>
            <a:chExt cx="519120" cy="1120680"/>
          </a:xfrm>
        </p:grpSpPr>
        <p:sp>
          <p:nvSpPr>
            <p:cNvPr id="569" name=""/>
            <p:cNvSpPr/>
            <p:nvPr/>
          </p:nvSpPr>
          <p:spPr>
            <a:xfrm flipV="1">
              <a:off x="54194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32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029200" y="3416400"/>
            <a:ext cx="417600" cy="615960"/>
            <a:chOff x="5029200" y="3416400"/>
            <a:chExt cx="417600" cy="615960"/>
          </a:xfrm>
        </p:grpSpPr>
        <p:sp>
          <p:nvSpPr>
            <p:cNvPr id="572" name=""/>
            <p:cNvSpPr/>
            <p:nvPr/>
          </p:nvSpPr>
          <p:spPr>
            <a:xfrm>
              <a:off x="5029200" y="3676680"/>
              <a:ext cx="380880" cy="35568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73480" y="3416400"/>
              <a:ext cx="3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676520" y="3276720"/>
            <a:ext cx="838080" cy="755640"/>
            <a:chOff x="1676520" y="3276720"/>
            <a:chExt cx="838080" cy="755640"/>
          </a:xfrm>
        </p:grpSpPr>
        <p:sp>
          <p:nvSpPr>
            <p:cNvPr id="576" name=""/>
            <p:cNvSpPr/>
            <p:nvPr/>
          </p:nvSpPr>
          <p:spPr>
            <a:xfrm>
              <a:off x="16765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478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79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8 + 43  =  6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1008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514600" y="3276720"/>
            <a:ext cx="838080" cy="755640"/>
            <a:chOff x="2514600" y="3276720"/>
            <a:chExt cx="838080" cy="755640"/>
          </a:xfrm>
        </p:grpSpPr>
        <p:sp>
          <p:nvSpPr>
            <p:cNvPr id="582" name=""/>
            <p:cNvSpPr/>
            <p:nvPr/>
          </p:nvSpPr>
          <p:spPr>
            <a:xfrm>
              <a:off x="25146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8596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352680" y="3276720"/>
            <a:ext cx="838080" cy="755640"/>
            <a:chOff x="3352680" y="3276720"/>
            <a:chExt cx="838080" cy="755640"/>
          </a:xfrm>
        </p:grpSpPr>
        <p:sp>
          <p:nvSpPr>
            <p:cNvPr id="585" name=""/>
            <p:cNvSpPr/>
            <p:nvPr/>
          </p:nvSpPr>
          <p:spPr>
            <a:xfrm>
              <a:off x="33526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240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191120" y="3276720"/>
            <a:ext cx="838080" cy="755640"/>
            <a:chOff x="4191120" y="3276720"/>
            <a:chExt cx="838080" cy="755640"/>
          </a:xfrm>
        </p:grpSpPr>
        <p:sp>
          <p:nvSpPr>
            <p:cNvPr id="588" name=""/>
            <p:cNvSpPr/>
            <p:nvPr/>
          </p:nvSpPr>
          <p:spPr>
            <a:xfrm>
              <a:off x="41911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624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+ 27 =  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94" name=""/>
          <p:cNvGrpSpPr/>
          <p:nvPr/>
        </p:nvGrpSpPr>
        <p:grpSpPr>
          <a:xfrm>
            <a:off x="2135880" y="4022280"/>
            <a:ext cx="519120" cy="1120680"/>
            <a:chOff x="2135880" y="4022280"/>
            <a:chExt cx="519120" cy="1120680"/>
          </a:xfrm>
        </p:grpSpPr>
        <p:sp>
          <p:nvSpPr>
            <p:cNvPr id="595" name=""/>
            <p:cNvSpPr/>
            <p:nvPr/>
          </p:nvSpPr>
          <p:spPr>
            <a:xfrm flipV="1">
              <a:off x="24228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35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63400" y="4022280"/>
            <a:ext cx="519120" cy="1120680"/>
            <a:chOff x="5963400" y="4022280"/>
            <a:chExt cx="519120" cy="1120680"/>
          </a:xfrm>
        </p:grpSpPr>
        <p:sp>
          <p:nvSpPr>
            <p:cNvPr id="598" name=""/>
            <p:cNvSpPr/>
            <p:nvPr/>
          </p:nvSpPr>
          <p:spPr>
            <a:xfrm flipV="1">
              <a:off x="62499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634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044960" y="3276720"/>
            <a:ext cx="838080" cy="755640"/>
            <a:chOff x="4044960" y="3276720"/>
            <a:chExt cx="838080" cy="755640"/>
          </a:xfrm>
        </p:grpSpPr>
        <p:sp>
          <p:nvSpPr>
            <p:cNvPr id="601" name=""/>
            <p:cNvSpPr/>
            <p:nvPr/>
          </p:nvSpPr>
          <p:spPr>
            <a:xfrm>
              <a:off x="404496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1632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889520" y="3276720"/>
            <a:ext cx="838080" cy="749160"/>
            <a:chOff x="4889520" y="3276720"/>
            <a:chExt cx="838080" cy="749160"/>
          </a:xfrm>
        </p:grpSpPr>
        <p:sp>
          <p:nvSpPr>
            <p:cNvPr id="604" name=""/>
            <p:cNvSpPr/>
            <p:nvPr/>
          </p:nvSpPr>
          <p:spPr>
            <a:xfrm>
              <a:off x="48895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177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15000" y="3276720"/>
            <a:ext cx="533520" cy="761040"/>
            <a:chOff x="5715000" y="3276720"/>
            <a:chExt cx="533520" cy="761040"/>
          </a:xfrm>
        </p:grpSpPr>
        <p:sp>
          <p:nvSpPr>
            <p:cNvPr id="608" name=""/>
            <p:cNvSpPr/>
            <p:nvPr/>
          </p:nvSpPr>
          <p:spPr>
            <a:xfrm>
              <a:off x="5715000" y="3589920"/>
              <a:ext cx="533520" cy="4478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25160" y="3276720"/>
              <a:ext cx="28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241800" y="3276720"/>
            <a:ext cx="838080" cy="755640"/>
            <a:chOff x="3241800" y="3276720"/>
            <a:chExt cx="838080" cy="755640"/>
          </a:xfrm>
        </p:grpSpPr>
        <p:sp>
          <p:nvSpPr>
            <p:cNvPr id="611" name=""/>
            <p:cNvSpPr/>
            <p:nvPr/>
          </p:nvSpPr>
          <p:spPr>
            <a:xfrm>
              <a:off x="32418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131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438280" y="3276720"/>
            <a:ext cx="838440" cy="755640"/>
            <a:chOff x="2438280" y="3276720"/>
            <a:chExt cx="838440" cy="755640"/>
          </a:xfrm>
        </p:grpSpPr>
        <p:sp>
          <p:nvSpPr>
            <p:cNvPr id="614" name=""/>
            <p:cNvSpPr/>
            <p:nvPr/>
          </p:nvSpPr>
          <p:spPr>
            <a:xfrm>
              <a:off x="2438280" y="358776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10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617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+ 27 = 27 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05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+ 27 =  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3669120" y="4022280"/>
            <a:ext cx="519120" cy="1120680"/>
            <a:chOff x="3669120" y="4022280"/>
            <a:chExt cx="519120" cy="1120680"/>
          </a:xfrm>
        </p:grpSpPr>
        <p:sp>
          <p:nvSpPr>
            <p:cNvPr id="625" name=""/>
            <p:cNvSpPr/>
            <p:nvPr/>
          </p:nvSpPr>
          <p:spPr>
            <a:xfrm flipV="1">
              <a:off x="3956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6912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945760" y="4022280"/>
            <a:ext cx="519120" cy="1120680"/>
            <a:chOff x="5945760" y="4022280"/>
            <a:chExt cx="519120" cy="1120680"/>
          </a:xfrm>
        </p:grpSpPr>
        <p:sp>
          <p:nvSpPr>
            <p:cNvPr id="628" name=""/>
            <p:cNvSpPr/>
            <p:nvPr/>
          </p:nvSpPr>
          <p:spPr>
            <a:xfrm flipV="1">
              <a:off x="62323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57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631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634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962520" y="3276720"/>
            <a:ext cx="609480" cy="761040"/>
            <a:chOff x="3962520" y="3276720"/>
            <a:chExt cx="609480" cy="761040"/>
          </a:xfrm>
        </p:grpSpPr>
        <p:sp>
          <p:nvSpPr>
            <p:cNvPr id="638" name=""/>
            <p:cNvSpPr/>
            <p:nvPr/>
          </p:nvSpPr>
          <p:spPr>
            <a:xfrm>
              <a:off x="3962520" y="3589920"/>
              <a:ext cx="609480" cy="4478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88160" y="3276720"/>
              <a:ext cx="33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641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=  72 - 27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2416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86000" y="525780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 + 26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7684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4685400" y="4022280"/>
            <a:ext cx="519120" cy="1120680"/>
            <a:chOff x="4685400" y="4022280"/>
            <a:chExt cx="519120" cy="1120680"/>
          </a:xfrm>
        </p:grpSpPr>
        <p:sp>
          <p:nvSpPr>
            <p:cNvPr id="649" name=""/>
            <p:cNvSpPr/>
            <p:nvPr/>
          </p:nvSpPr>
          <p:spPr>
            <a:xfrm flipV="1">
              <a:off x="49723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854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869520" y="4022280"/>
            <a:ext cx="519120" cy="1120680"/>
            <a:chOff x="6869520" y="4022280"/>
            <a:chExt cx="519120" cy="1120680"/>
          </a:xfrm>
        </p:grpSpPr>
        <p:sp>
          <p:nvSpPr>
            <p:cNvPr id="652" name=""/>
            <p:cNvSpPr/>
            <p:nvPr/>
          </p:nvSpPr>
          <p:spPr>
            <a:xfrm flipV="1">
              <a:off x="71560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6952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6386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803920" y="3276720"/>
            <a:ext cx="838080" cy="755640"/>
            <a:chOff x="5803920" y="3276720"/>
            <a:chExt cx="838080" cy="755640"/>
          </a:xfrm>
        </p:grpSpPr>
        <p:sp>
          <p:nvSpPr>
            <p:cNvPr id="656" name=""/>
            <p:cNvSpPr/>
            <p:nvPr/>
          </p:nvSpPr>
          <p:spPr>
            <a:xfrm>
              <a:off x="58039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752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981680" y="3276720"/>
            <a:ext cx="838080" cy="755640"/>
            <a:chOff x="4981680" y="3276720"/>
            <a:chExt cx="838080" cy="755640"/>
          </a:xfrm>
        </p:grpSpPr>
        <p:sp>
          <p:nvSpPr>
            <p:cNvPr id="659" name=""/>
            <p:cNvSpPr/>
            <p:nvPr/>
          </p:nvSpPr>
          <p:spPr>
            <a:xfrm>
              <a:off x="49816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530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642000" y="3263760"/>
            <a:ext cx="533520" cy="761400"/>
            <a:chOff x="6642000" y="3263760"/>
            <a:chExt cx="533520" cy="761400"/>
          </a:xfrm>
        </p:grpSpPr>
        <p:sp>
          <p:nvSpPr>
            <p:cNvPr id="662" name=""/>
            <p:cNvSpPr/>
            <p:nvPr/>
          </p:nvSpPr>
          <p:spPr>
            <a:xfrm>
              <a:off x="6642000" y="3587040"/>
              <a:ext cx="53352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73760" y="3263760"/>
              <a:ext cx="2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Numerac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making sense of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oblem solv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understanding bas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learning with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eparing for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7 +         = 8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286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71600" y="4800600"/>
            <a:ext cx="6553080" cy="1828800"/>
            <a:chOff x="1371600" y="4800600"/>
            <a:chExt cx="6553080" cy="1828800"/>
          </a:xfrm>
        </p:grpSpPr>
        <p:sp>
          <p:nvSpPr>
            <p:cNvPr id="670" name=""/>
            <p:cNvSpPr/>
            <p:nvPr/>
          </p:nvSpPr>
          <p:spPr>
            <a:xfrm>
              <a:off x="1371600" y="48006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71600" y="5715000"/>
              <a:ext cx="655308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8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34120" y="4800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71600" y="3885840"/>
            <a:ext cx="6781680" cy="686160"/>
            <a:chOff x="1371600" y="3885840"/>
            <a:chExt cx="6781680" cy="686160"/>
          </a:xfrm>
        </p:grpSpPr>
        <p:sp>
          <p:nvSpPr>
            <p:cNvPr id="674" name=""/>
            <p:cNvSpPr/>
            <p:nvPr/>
          </p:nvSpPr>
          <p:spPr>
            <a:xfrm>
              <a:off x="50292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71600" y="40384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53341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8487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y Fra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to-on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from one with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from one by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Part-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art-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Multipl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-   x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71600" y="31240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- 53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- x = 27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- 53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6520" y="3962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x = -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95280" y="480060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= -26 ÷ 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70120" y="5638680"/>
            <a:ext cx="672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= 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-   x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71600" y="31240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x +x = 27 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06520" y="3962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          = 27 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48006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27    = 27 -27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24160" y="56386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6       =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    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86200" y="2286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5715000"/>
            <a:ext cx="39625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4800600"/>
            <a:ext cx="65530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371600" y="3885840"/>
            <a:ext cx="6781680" cy="686160"/>
            <a:chOff x="1371600" y="3885840"/>
            <a:chExt cx="6781680" cy="686160"/>
          </a:xfrm>
        </p:grpSpPr>
        <p:sp>
          <p:nvSpPr>
            <p:cNvPr id="697" name=""/>
            <p:cNvSpPr/>
            <p:nvPr/>
          </p:nvSpPr>
          <p:spPr>
            <a:xfrm>
              <a:off x="50292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71600" y="40384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3341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8487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438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334120" y="57150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+ 1 = X +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4114800"/>
            <a:ext cx="39621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71600" y="3200400"/>
            <a:ext cx="25909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32004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53080" y="32004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+ 1 =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114800"/>
            <a:ext cx="6553080" cy="76212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371600" y="3200400"/>
            <a:ext cx="6553080" cy="914400"/>
            <a:chOff x="1371600" y="3200400"/>
            <a:chExt cx="6553080" cy="914400"/>
          </a:xfrm>
        </p:grpSpPr>
        <p:sp>
          <p:nvSpPr>
            <p:cNvPr id="714" name=""/>
            <p:cNvSpPr/>
            <p:nvPr/>
          </p:nvSpPr>
          <p:spPr>
            <a:xfrm>
              <a:off x="1371600" y="3200400"/>
              <a:ext cx="2590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62520" y="3200400"/>
              <a:ext cx="259056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553080" y="3200400"/>
              <a:ext cx="13716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Teaching Progre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aterials, diagrams to illustrate and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mental images to help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bstractly with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- 1 = X +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4114800"/>
            <a:ext cx="19047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71600" y="3200400"/>
            <a:ext cx="32767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48320" y="3200400"/>
            <a:ext cx="32763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371600" y="4114800"/>
            <a:ext cx="3276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- 1 = 2X -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3200400"/>
            <a:ext cx="39625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4120" y="3200400"/>
            <a:ext cx="25905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62520" y="41148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- 1 = 2X -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371600" y="32004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320040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411480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4114800"/>
            <a:ext cx="655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71600" y="502920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 =  X +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71600" y="594360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 = 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- 1 = 8 - X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1680" y="4114800"/>
            <a:ext cx="990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71600" y="4114800"/>
            <a:ext cx="54100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05320" y="3200400"/>
            <a:ext cx="21333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3868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explore links between numeracy and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 parti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show that images used to help solve number problems also develop understanding for solving complicated linear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1600" y="4114800"/>
            <a:ext cx="64008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53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371600" y="4114800"/>
            <a:ext cx="6400800" cy="914400"/>
            <a:chOff x="1371600" y="4114800"/>
            <a:chExt cx="6400800" cy="914400"/>
          </a:xfrm>
        </p:grpSpPr>
        <p:sp>
          <p:nvSpPr>
            <p:cNvPr id="764" name=""/>
            <p:cNvSpPr/>
            <p:nvPr/>
          </p:nvSpPr>
          <p:spPr>
            <a:xfrm>
              <a:off x="1371600" y="4114800"/>
              <a:ext cx="32004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2000" y="4114800"/>
              <a:ext cx="32004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71600" y="4114800"/>
            <a:ext cx="64008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05320" y="3200400"/>
            <a:ext cx="21333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38680" y="3200400"/>
            <a:ext cx="106704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371600" y="2133720"/>
            <a:ext cx="58672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+ 3 =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71600" y="3200400"/>
            <a:ext cx="22860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371600" y="4114800"/>
            <a:ext cx="58672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3200400"/>
            <a:ext cx="35812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5105520" y="5257800"/>
            <a:ext cx="28191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09680" y="3429000"/>
            <a:ext cx="43434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53080" y="43434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124080" y="2057400"/>
            <a:ext cx="3810240" cy="1143000"/>
            <a:chOff x="3124080" y="2057400"/>
            <a:chExt cx="3810240" cy="1143000"/>
          </a:xfrm>
        </p:grpSpPr>
        <p:sp>
          <p:nvSpPr>
            <p:cNvPr id="782" name=""/>
            <p:cNvSpPr/>
            <p:nvPr/>
          </p:nvSpPr>
          <p:spPr>
            <a:xfrm>
              <a:off x="3124080" y="2057400"/>
              <a:ext cx="3810240" cy="1143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3733920" y="2133720"/>
                  <a:ext cx="270504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4" name=""/>
            <p:cNvSpPr/>
            <p:nvPr/>
          </p:nvSpPr>
          <p:spPr>
            <a:xfrm>
              <a:off x="3759120" y="266724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209680" y="4191120"/>
            <a:ext cx="4343400" cy="1066680"/>
            <a:chOff x="2209680" y="4191120"/>
            <a:chExt cx="4343400" cy="1066680"/>
          </a:xfrm>
        </p:grpSpPr>
        <p:grpSp>
          <p:nvGrpSpPr>
            <p:cNvPr id="786" name=""/>
            <p:cNvGrpSpPr/>
            <p:nvPr/>
          </p:nvGrpSpPr>
          <p:grpSpPr>
            <a:xfrm>
              <a:off x="5105520" y="4191120"/>
              <a:ext cx="1447560" cy="1066680"/>
              <a:chOff x="5105520" y="4191120"/>
              <a:chExt cx="1447560" cy="1066680"/>
            </a:xfrm>
          </p:grpSpPr>
          <p:sp>
            <p:nvSpPr>
              <p:cNvPr id="787" name=""/>
              <p:cNvSpPr/>
              <p:nvPr/>
            </p:nvSpPr>
            <p:spPr>
              <a:xfrm>
                <a:off x="510552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5715000" y="4191120"/>
                <a:ext cx="317520" cy="1015920"/>
                <a:chOff x="571500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89" name=""/>
                    <p:cNvSpPr txBox="1"/>
                    <p:nvPr/>
                  </p:nvSpPr>
                  <p:spPr>
                    <a:xfrm>
                      <a:off x="571500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90" name=""/>
                <p:cNvSpPr/>
                <p:nvPr/>
              </p:nvSpPr>
              <p:spPr>
                <a:xfrm>
                  <a:off x="572760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1" name=""/>
            <p:cNvGrpSpPr/>
            <p:nvPr/>
          </p:nvGrpSpPr>
          <p:grpSpPr>
            <a:xfrm>
              <a:off x="3657600" y="4191120"/>
              <a:ext cx="1447560" cy="1066680"/>
              <a:chOff x="3657600" y="4191120"/>
              <a:chExt cx="1447560" cy="1066680"/>
            </a:xfrm>
          </p:grpSpPr>
          <p:sp>
            <p:nvSpPr>
              <p:cNvPr id="792" name=""/>
              <p:cNvSpPr/>
              <p:nvPr/>
            </p:nvSpPr>
            <p:spPr>
              <a:xfrm>
                <a:off x="365760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4267080" y="4191120"/>
                <a:ext cx="317520" cy="1015920"/>
                <a:chOff x="426708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94" name=""/>
                    <p:cNvSpPr txBox="1"/>
                    <p:nvPr/>
                  </p:nvSpPr>
                  <p:spPr>
                    <a:xfrm>
                      <a:off x="426708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95" name=""/>
                <p:cNvSpPr/>
                <p:nvPr/>
              </p:nvSpPr>
              <p:spPr>
                <a:xfrm>
                  <a:off x="427968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2209680" y="4191120"/>
              <a:ext cx="1447560" cy="1066680"/>
              <a:chOff x="2209680" y="4191120"/>
              <a:chExt cx="1447560" cy="1066680"/>
            </a:xfrm>
          </p:grpSpPr>
          <p:sp>
            <p:nvSpPr>
              <p:cNvPr id="797" name=""/>
              <p:cNvSpPr/>
              <p:nvPr/>
            </p:nvSpPr>
            <p:spPr>
              <a:xfrm>
                <a:off x="220968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2819160" y="4191120"/>
                <a:ext cx="317520" cy="1015920"/>
                <a:chOff x="281916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99" name=""/>
                    <p:cNvSpPr txBox="1"/>
                    <p:nvPr/>
                  </p:nvSpPr>
                  <p:spPr>
                    <a:xfrm>
                      <a:off x="281916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00" name=""/>
                <p:cNvSpPr/>
                <p:nvPr/>
              </p:nvSpPr>
              <p:spPr>
                <a:xfrm>
                  <a:off x="283176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819520" y="3352680"/>
            <a:ext cx="35049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24480" y="3352680"/>
            <a:ext cx="83844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124080" y="1981080"/>
            <a:ext cx="3810240" cy="1143000"/>
            <a:chOff x="3124080" y="1981080"/>
            <a:chExt cx="3810240" cy="1143000"/>
          </a:xfrm>
        </p:grpSpPr>
        <p:sp>
          <p:nvSpPr>
            <p:cNvPr id="805" name=""/>
            <p:cNvSpPr/>
            <p:nvPr/>
          </p:nvSpPr>
          <p:spPr>
            <a:xfrm>
              <a:off x="3124080" y="1981080"/>
              <a:ext cx="3810240" cy="1143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3924360" y="2057400"/>
                  <a:ext cx="232416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7" name=""/>
            <p:cNvSpPr/>
            <p:nvPr/>
          </p:nvSpPr>
          <p:spPr>
            <a:xfrm>
              <a:off x="3911760" y="2590920"/>
              <a:ext cx="96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819520" y="4267080"/>
            <a:ext cx="4343400" cy="914400"/>
            <a:chOff x="2819520" y="4267080"/>
            <a:chExt cx="4343400" cy="914400"/>
          </a:xfrm>
        </p:grpSpPr>
        <p:sp>
          <p:nvSpPr>
            <p:cNvPr id="809" name=""/>
            <p:cNvSpPr/>
            <p:nvPr/>
          </p:nvSpPr>
          <p:spPr>
            <a:xfrm>
              <a:off x="5715360" y="4267080"/>
              <a:ext cx="144756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7440" y="4267080"/>
              <a:ext cx="1447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19520" y="4267080"/>
              <a:ext cx="1447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819520" y="5181480"/>
            <a:ext cx="4343400" cy="914400"/>
            <a:chOff x="2819520" y="5181480"/>
            <a:chExt cx="4343400" cy="914400"/>
          </a:xfrm>
        </p:grpSpPr>
        <p:sp>
          <p:nvSpPr>
            <p:cNvPr id="813" name=""/>
            <p:cNvSpPr/>
            <p:nvPr/>
          </p:nvSpPr>
          <p:spPr>
            <a:xfrm>
              <a:off x="5715360" y="5181480"/>
              <a:ext cx="144756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67440" y="5181480"/>
              <a:ext cx="144792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81480"/>
              <a:ext cx="144792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Numerac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making sense of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oblem solv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understanding bas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learning with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eparing for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swers Only Plea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6 +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61 –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4 + ?  = 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8 + 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9000 – 8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03 -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47 + y = 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53 - m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x + 1 = x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x - 1 = 8 -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6 + 7 = ?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88 + x = 120 +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Teaching Progre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aterials, diagrams to illustrate and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mental images to help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bstractly with the number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23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127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130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4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50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64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67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72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89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92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95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98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01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0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0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1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1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1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2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0:32:11Z</dcterms:created>
  <dc:creator>Murray Britt</dc:creator>
  <dc:description/>
  <dc:language>en-US</dc:language>
  <cp:lastModifiedBy>Support Services</cp:lastModifiedBy>
  <cp:lastPrinted>2004-08-30T02:31:11Z</cp:lastPrinted>
  <dcterms:modified xsi:type="dcterms:W3CDTF">2004-10-22T00:54:42Z</dcterms:modified>
  <cp:revision>46</cp:revision>
  <dc:subject/>
  <dc:title>Number Strategy 1</dc:title>
</cp:coreProperties>
</file>